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45D5-3A9D-4F1C-9D62-E684C4247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6347-0241-47F0-A302-513FE00C1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A7A1-8122-47C4-BD23-887B64D94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622C-4047-468E-A171-7151DE91D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CD29-FDAA-40B2-B3E5-7A6412E8F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56FC-8D68-4219-9165-91D2306BA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1F32-EA04-4BAA-BCDE-C81CB1A81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8F76-704B-4FC0-A35D-275708369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A11B-CF33-458E-AB4D-BDE606214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FE8A-EF03-4033-9F60-2E624ADA8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F995-DCE4-4593-8C69-020E7A58F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6286-9AB7-45F3-9173-5C1DF52F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DFBAF-4581-445C-B998-FD717E637D7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07B0A-327F-4680-9D74-FFE7DC745A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" Target="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1295280"/>
            <a:ext cx="762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333399"/>
                </a:solidFill>
                <a:latin typeface="Arial"/>
              </a:rPr>
              <a:t>DISEÑO DE BASES DE DATOS PARA APLICACIONES DE COMERCIO ELECTRÓNICO  “E-COMMERC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3581280"/>
            <a:ext cx="7620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808080"/>
                </a:solidFill>
                <a:latin typeface="Arial"/>
              </a:rPr>
              <a:t>Sistemas de Bases de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808080"/>
                </a:solidFill>
                <a:latin typeface="Arial"/>
              </a:rPr>
              <a:t>Presenter: Ricardo Le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5334120"/>
            <a:ext cx="7620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333399"/>
                </a:solidFill>
                <a:latin typeface="Arial"/>
              </a:rPr>
              <a:t>FACULTAD DE INGENIERÍA DE SISTE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333399"/>
                </a:solidFill>
                <a:latin typeface="Arial"/>
              </a:rPr>
              <a:t>UNIVERSIDAD AUTÓNOMA DE COLOM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4CECA6-EE0B-438A-BA36-315620C0992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914400" y="457200"/>
            <a:ext cx="731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008000"/>
                </a:solidFill>
                <a:latin typeface="Arial"/>
              </a:rPr>
              <a:t>3. Resumen de Ent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381880" y="6324480"/>
            <a:ext cx="457200" cy="304920"/>
          </a:xfrm>
          <a:prstGeom prst="leftArrow">
            <a:avLst>
              <a:gd name="adj1" fmla="val 50000"/>
              <a:gd name="adj2" fmla="val 37485"/>
            </a:avLst>
          </a:prstGeom>
          <a:gradFill rotWithShape="0">
            <a:gsLst>
              <a:gs pos="0">
                <a:srgbClr val="a6f8a8"/>
              </a:gs>
              <a:gs pos="100000">
                <a:srgbClr val="4c724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943600" y="457200"/>
            <a:ext cx="2286000" cy="3373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ffffff"/>
                </a:solidFill>
                <a:latin typeface="Arial"/>
              </a:rPr>
              <a:t>TABLA  PROMO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60240" y="1523880"/>
            <a:ext cx="8102880" cy="3753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C4F8E9-5153-431B-9BB7-7A3AC3D3AF7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914400" y="457200"/>
            <a:ext cx="731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008000"/>
                </a:solidFill>
                <a:latin typeface="Arial"/>
              </a:rPr>
              <a:t>3. Resumen de Ent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381880" y="6324480"/>
            <a:ext cx="457200" cy="304920"/>
          </a:xfrm>
          <a:prstGeom prst="leftArrow">
            <a:avLst>
              <a:gd name="adj1" fmla="val 50000"/>
              <a:gd name="adj2" fmla="val 37485"/>
            </a:avLst>
          </a:prstGeom>
          <a:gradFill rotWithShape="0">
            <a:gsLst>
              <a:gs pos="0">
                <a:srgbClr val="a6f8a8"/>
              </a:gs>
              <a:gs pos="100000">
                <a:srgbClr val="4c724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638680" y="457200"/>
            <a:ext cx="2590920" cy="3373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ffffff"/>
                </a:solidFill>
                <a:latin typeface="Arial"/>
              </a:rPr>
              <a:t>TABLA  PRICEWA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36480" y="1452600"/>
            <a:ext cx="8050320" cy="3881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091991-FFAC-4123-B1E8-04C81BBE35D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914400" y="457200"/>
            <a:ext cx="731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008000"/>
                </a:solidFill>
                <a:latin typeface="Arial"/>
              </a:rPr>
              <a:t>3. Resumen de Ent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381880" y="6324480"/>
            <a:ext cx="457200" cy="304920"/>
          </a:xfrm>
          <a:prstGeom prst="leftArrow">
            <a:avLst>
              <a:gd name="adj1" fmla="val 50000"/>
              <a:gd name="adj2" fmla="val 37485"/>
            </a:avLst>
          </a:prstGeom>
          <a:gradFill rotWithShape="0">
            <a:gsLst>
              <a:gs pos="0">
                <a:srgbClr val="a6f8a8"/>
              </a:gs>
              <a:gs pos="100000">
                <a:srgbClr val="4c724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638680" y="457200"/>
            <a:ext cx="2590920" cy="3373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ffffff"/>
                </a:solidFill>
                <a:latin typeface="Arial"/>
              </a:rPr>
              <a:t>TABLA  PRODPR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763120" cy="2492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270BC3-7A5A-489D-9858-A0D1DF33063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1905120" y="2895480"/>
            <a:ext cx="54100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acias !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609480"/>
            <a:ext cx="762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680068"/>
                </a:solidFill>
                <a:latin typeface="Arial"/>
              </a:rPr>
              <a:t>DISEÑO DE BASES DE DATOS PARA APLICACIONES DE COMERCIO ELECTRÓNICO  “E-COMMERC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5240160"/>
            <a:ext cx="7620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202062"/>
                </a:solidFill>
                <a:latin typeface="Arial"/>
              </a:rPr>
              <a:t>Sistemas de Bases de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202062"/>
                </a:solidFill>
                <a:latin typeface="Arial"/>
              </a:rPr>
              <a:t>Presenter: Ricardo Le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CFF7FB-C795-4DFB-86E3-59C0FD33637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90720" y="1523880"/>
            <a:ext cx="761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1. Requerimientos básicos para diseño de Bases de Datos E-</a:t>
            </a:r>
            <a:r>
              <a:rPr b="0" lang="es-CO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Comme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rId3" action="ppaction://hlinksldjump"/>
          </p:cNvPr>
          <p:cNvSpPr/>
          <p:nvPr/>
        </p:nvSpPr>
        <p:spPr>
          <a:xfrm>
            <a:off x="990720" y="312408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2. Reglas básicas del negoc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449568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3. Resumen de Ent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442EBE-8CBD-4F24-AFA1-BA7B540DE03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>
            <a:lum bright="58000"/>
          </a:blip>
          <a:stretch/>
        </p:blipFill>
        <p:spPr>
          <a:xfrm>
            <a:off x="533520" y="1089000"/>
            <a:ext cx="2057400" cy="1577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895480" y="4941720"/>
            <a:ext cx="2514600" cy="1916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>
            <a:lum bright="60000"/>
          </a:blip>
          <a:stretch/>
        </p:blipFill>
        <p:spPr>
          <a:xfrm>
            <a:off x="76320" y="4933800"/>
            <a:ext cx="1752480" cy="1314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 rot="19787400">
            <a:off x="3733560" y="1066320"/>
            <a:ext cx="4686120" cy="17208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38080" y="457200"/>
            <a:ext cx="7315200" cy="3373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ffffff"/>
                </a:solidFill>
                <a:latin typeface="Arial"/>
              </a:rPr>
              <a:t>1. Requerimentos básicos para diseño de Bases de Datos E-Commerc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5" action="ppaction://hlinksldjump"/>
          </p:cNvPr>
          <p:cNvSpPr/>
          <p:nvPr/>
        </p:nvSpPr>
        <p:spPr>
          <a:xfrm>
            <a:off x="8381880" y="6324480"/>
            <a:ext cx="457200" cy="304920"/>
          </a:xfrm>
          <a:prstGeom prst="leftArrow">
            <a:avLst>
              <a:gd name="adj1" fmla="val 50000"/>
              <a:gd name="adj2" fmla="val 37485"/>
            </a:avLst>
          </a:prstGeom>
          <a:gradFill rotWithShape="0">
            <a:gsLst>
              <a:gs pos="0">
                <a:srgbClr val="a6f8a8"/>
              </a:gs>
              <a:gs pos="100000">
                <a:srgbClr val="4c724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4952880" y="4724280"/>
            <a:ext cx="3333960" cy="16002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14400" y="1905120"/>
            <a:ext cx="7620120" cy="3794760"/>
          </a:xfrm>
          <a:prstGeom prst="rect">
            <a:avLst/>
          </a:prstGeom>
          <a:solidFill>
            <a:srgbClr val="202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O" sz="2200" spc="-1" strike="noStrike">
                <a:solidFill>
                  <a:srgbClr val="ffffff"/>
                </a:solidFill>
                <a:latin typeface="Arial"/>
              </a:rPr>
              <a:t>La base de datos deberá soportar la capacidad del sitio Web, para mostrar los productos o servicios disponibles y de realizar transacciones de ventas básic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O" sz="2200" spc="-1" strike="noStrike">
                <a:solidFill>
                  <a:srgbClr val="ffffff"/>
                </a:solidFill>
                <a:latin typeface="Arial"/>
              </a:rPr>
              <a:t>Ofrecer características enfocadas en el servicio al cliente, devoluciones de Productos y determinación del perfíl del cliente para hacer que la experiencia del cliente en la web sea placenter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O" sz="2200" spc="-1" strike="noStrike">
                <a:solidFill>
                  <a:srgbClr val="ffffff"/>
                </a:solidFill>
                <a:latin typeface="Arial"/>
              </a:rPr>
              <a:t>Las entidades definidas para el soporte de la venta de productos, son las más dedicadas principalmen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456D1D-7837-4550-8932-30CD56795A0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14400" y="457200"/>
            <a:ext cx="731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990099"/>
                </a:solidFill>
                <a:latin typeface="Arial"/>
              </a:rPr>
              <a:t>2. Reglas del negocio básic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1015920"/>
            <a:ext cx="8077320" cy="5075640"/>
          </a:xfrm>
          <a:prstGeom prst="rect">
            <a:avLst/>
          </a:prstGeom>
          <a:solidFill>
            <a:srgbClr val="6800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O" sz="1900" spc="-1" strike="noStrike">
                <a:solidFill>
                  <a:srgbClr val="ffffff"/>
                </a:solidFill>
                <a:latin typeface="Arial"/>
              </a:rPr>
              <a:t>Las tablas PRODUCTO y CLIENTE son las más relevant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O" sz="1900" spc="-1" strike="noStrike">
                <a:solidFill>
                  <a:srgbClr val="ffffff"/>
                </a:solidFill>
                <a:latin typeface="Arial"/>
              </a:rPr>
              <a:t>La relación más considerada es la de 1:M (CLIENTE – PEDIDO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O" sz="1900" spc="-1" strike="noStrike">
                <a:solidFill>
                  <a:srgbClr val="ffffff"/>
                </a:solidFill>
                <a:latin typeface="Arial"/>
              </a:rPr>
              <a:t>1:M entre PEDIDO y ORDLIN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O" sz="1900" spc="-1" strike="noStrike">
                <a:solidFill>
                  <a:srgbClr val="ffffff"/>
                </a:solidFill>
                <a:latin typeface="Arial"/>
              </a:rPr>
              <a:t>1:M entre PRODUCTO y ORDLIN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O" sz="1900" spc="-1" strike="noStrike">
                <a:solidFill>
                  <a:srgbClr val="ffffff"/>
                </a:solidFill>
                <a:latin typeface="Arial"/>
              </a:rPr>
              <a:t>PRODTYPE Vs. PRODUCT   </a:t>
            </a:r>
            <a:r>
              <a:rPr b="0" lang="es-CO" sz="19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O" sz="1900" spc="-1" strike="noStrike">
                <a:solidFill>
                  <a:srgbClr val="ffffff"/>
                </a:solidFill>
                <a:latin typeface="Arial"/>
              </a:rPr>
              <a:t>  Existe especial relació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O" sz="1900" spc="-1" strike="noStrike">
                <a:solidFill>
                  <a:srgbClr val="ffffff"/>
                </a:solidFill>
                <a:latin typeface="Arial"/>
              </a:rPr>
              <a:t>SHOPCAR </a:t>
            </a:r>
            <a:r>
              <a:rPr b="0" lang="es-CO" sz="19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O" sz="1900" spc="-1" strike="noStrike">
                <a:solidFill>
                  <a:srgbClr val="ffffff"/>
                </a:solidFill>
                <a:latin typeface="Arial"/>
              </a:rPr>
              <a:t> perteneca a un CLIENTE y se refiere a uno o más producto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O" sz="1900" spc="-1" strike="noStrike">
                <a:solidFill>
                  <a:srgbClr val="ffffff"/>
                </a:solidFill>
                <a:latin typeface="Arial"/>
              </a:rPr>
              <a:t>Entidad PEDIDO  </a:t>
            </a:r>
            <a:r>
              <a:rPr b="0" lang="es-CO" sz="19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O" sz="1900" spc="-1" strike="noStrike">
                <a:solidFill>
                  <a:srgbClr val="ffffff"/>
                </a:solidFill>
                <a:latin typeface="Arial"/>
              </a:rPr>
              <a:t> cuando el cliente cierra el pedido !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O" sz="1900" spc="-1" strike="noStrike">
                <a:solidFill>
                  <a:srgbClr val="ffffff"/>
                </a:solidFill>
                <a:latin typeface="Arial"/>
              </a:rPr>
              <a:t>SHOPCAR </a:t>
            </a:r>
            <a:r>
              <a:rPr b="0" lang="es-CO" sz="19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O" sz="1900" spc="-1" strike="noStrike">
                <a:solidFill>
                  <a:srgbClr val="ffffff"/>
                </a:solidFill>
                <a:latin typeface="Arial"/>
              </a:rPr>
              <a:t> cleaned !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O" sz="1900" spc="-1" strike="noStrike">
                <a:solidFill>
                  <a:srgbClr val="ffffff"/>
                </a:solidFill>
                <a:latin typeface="Arial"/>
              </a:rPr>
              <a:t>SHIPOTION </a:t>
            </a:r>
            <a:r>
              <a:rPr b="0" lang="es-CO" sz="19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O" sz="1900" spc="-1" strike="noStrike">
                <a:solidFill>
                  <a:srgbClr val="ffffff"/>
                </a:solidFill>
                <a:latin typeface="Arial"/>
              </a:rPr>
              <a:t> permite seleccionar el medio para realizar la entreg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O" sz="1900" spc="-1" strike="noStrike">
                <a:solidFill>
                  <a:srgbClr val="ffffff"/>
                </a:solidFill>
                <a:latin typeface="Arial"/>
              </a:rPr>
              <a:t>PMOPTIONS </a:t>
            </a:r>
            <a:r>
              <a:rPr b="0" lang="es-CO" sz="19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O" sz="1900" spc="-1" strike="noStrike">
                <a:solidFill>
                  <a:srgbClr val="ffffff"/>
                </a:solidFill>
                <a:latin typeface="Arial"/>
              </a:rPr>
              <a:t> formas de pago (Master Card, VISA, … etc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O" sz="1900" spc="-1" strike="noStrike">
                <a:solidFill>
                  <a:srgbClr val="ffffff"/>
                </a:solidFill>
                <a:latin typeface="Arial"/>
              </a:rPr>
              <a:t>ESTADOS / IMPUESTOS </a:t>
            </a:r>
            <a:r>
              <a:rPr b="0" lang="es-CO" sz="19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O" sz="1900" spc="-1" strike="noStrike">
                <a:solidFill>
                  <a:srgbClr val="ffffff"/>
                </a:solidFill>
                <a:latin typeface="Arial"/>
              </a:rPr>
              <a:t> rastrea estado Vs. Taza de Impuest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1" action="ppaction://hlinksldjump"/>
          </p:cNvPr>
          <p:cNvSpPr/>
          <p:nvPr/>
        </p:nvSpPr>
        <p:spPr>
          <a:xfrm>
            <a:off x="8381880" y="6324480"/>
            <a:ext cx="457200" cy="304920"/>
          </a:xfrm>
          <a:prstGeom prst="leftArrow">
            <a:avLst>
              <a:gd name="adj1" fmla="val 50000"/>
              <a:gd name="adj2" fmla="val 37485"/>
            </a:avLst>
          </a:prstGeom>
          <a:gradFill rotWithShape="0">
            <a:gsLst>
              <a:gs pos="0">
                <a:srgbClr val="a6f8a8"/>
              </a:gs>
              <a:gs pos="100000">
                <a:srgbClr val="4c724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340817-500A-4202-9E28-62888334A9A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14400" y="457200"/>
            <a:ext cx="731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008000"/>
                </a:solidFill>
                <a:latin typeface="Arial"/>
              </a:rPr>
              <a:t>3. Resumen de Ent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381880" y="6324480"/>
            <a:ext cx="457200" cy="304920"/>
          </a:xfrm>
          <a:prstGeom prst="leftArrow">
            <a:avLst>
              <a:gd name="adj1" fmla="val 50000"/>
              <a:gd name="adj2" fmla="val 37485"/>
            </a:avLst>
          </a:prstGeom>
          <a:gradFill rotWithShape="0">
            <a:gsLst>
              <a:gs pos="0">
                <a:srgbClr val="a6f8a8"/>
              </a:gs>
              <a:gs pos="100000">
                <a:srgbClr val="4c724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09720" y="990720"/>
            <a:ext cx="7777080" cy="5029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114800" y="457200"/>
            <a:ext cx="4343400" cy="3373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ffffff"/>
                </a:solidFill>
                <a:latin typeface="Arial"/>
              </a:rPr>
              <a:t>TABLAS PRINCIPALES DE E-COMME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A472FE-ADFB-44F3-A26C-434BF855E1A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14400" y="457200"/>
            <a:ext cx="731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008000"/>
                </a:solidFill>
                <a:latin typeface="Arial"/>
              </a:rPr>
              <a:t>3. Resumen de Ent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381880" y="6324480"/>
            <a:ext cx="457200" cy="304920"/>
          </a:xfrm>
          <a:prstGeom prst="leftArrow">
            <a:avLst>
              <a:gd name="adj1" fmla="val 50000"/>
              <a:gd name="adj2" fmla="val 37485"/>
            </a:avLst>
          </a:prstGeom>
          <a:gradFill rotWithShape="0">
            <a:gsLst>
              <a:gs pos="0">
                <a:srgbClr val="a6f8a8"/>
              </a:gs>
              <a:gs pos="100000">
                <a:srgbClr val="4c724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248520" y="457200"/>
            <a:ext cx="1981080" cy="3373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ffffff"/>
                </a:solidFill>
                <a:latin typeface="Arial"/>
              </a:rPr>
              <a:t>TABLA CL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09480" y="762120"/>
            <a:ext cx="8000640" cy="5943240"/>
            <a:chOff x="609480" y="762120"/>
            <a:chExt cx="8000640" cy="5943240"/>
          </a:xfrm>
        </p:grpSpPr>
        <p:pic>
          <p:nvPicPr>
            <p:cNvPr id="66" name="" descr=""/>
            <p:cNvPicPr/>
            <p:nvPr/>
          </p:nvPicPr>
          <p:blipFill>
            <a:blip r:embed="rId1"/>
            <a:stretch/>
          </p:blipFill>
          <p:spPr>
            <a:xfrm>
              <a:off x="656280" y="762120"/>
              <a:ext cx="7953840" cy="433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2"/>
            <a:stretch/>
          </p:blipFill>
          <p:spPr>
            <a:xfrm>
              <a:off x="609480" y="4954320"/>
              <a:ext cx="7914240" cy="175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4D6C46-0F73-4429-9959-AD3BB74A8A2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914400" y="457200"/>
            <a:ext cx="731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008000"/>
                </a:solidFill>
                <a:latin typeface="Arial"/>
              </a:rPr>
              <a:t>3. Resumen de Ent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381880" y="6324480"/>
            <a:ext cx="457200" cy="304920"/>
          </a:xfrm>
          <a:prstGeom prst="leftArrow">
            <a:avLst>
              <a:gd name="adj1" fmla="val 50000"/>
              <a:gd name="adj2" fmla="val 37485"/>
            </a:avLst>
          </a:prstGeom>
          <a:gradFill rotWithShape="0">
            <a:gsLst>
              <a:gs pos="0">
                <a:srgbClr val="a6f8a8"/>
              </a:gs>
              <a:gs pos="100000">
                <a:srgbClr val="4c724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943600" y="457200"/>
            <a:ext cx="2286000" cy="3373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ffffff"/>
                </a:solidFill>
                <a:latin typeface="Arial"/>
              </a:rPr>
              <a:t>TABLA PRODUC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8381880" cy="2146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8687E8-3202-4258-BFB3-9E03F7D609A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914400" y="457200"/>
            <a:ext cx="731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008000"/>
                </a:solidFill>
                <a:latin typeface="Arial"/>
              </a:rPr>
              <a:t>3. Resumen de Ent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381880" y="6324480"/>
            <a:ext cx="457200" cy="304920"/>
          </a:xfrm>
          <a:prstGeom prst="leftArrow">
            <a:avLst>
              <a:gd name="adj1" fmla="val 50000"/>
              <a:gd name="adj2" fmla="val 37485"/>
            </a:avLst>
          </a:prstGeom>
          <a:gradFill rotWithShape="0">
            <a:gsLst>
              <a:gs pos="0">
                <a:srgbClr val="a6f8a8"/>
              </a:gs>
              <a:gs pos="100000">
                <a:srgbClr val="4c724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943600" y="457200"/>
            <a:ext cx="2286000" cy="3373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ffffff"/>
                </a:solidFill>
                <a:latin typeface="Arial"/>
              </a:rPr>
              <a:t>TABLA  PROD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2081160"/>
            <a:ext cx="8458200" cy="2338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649E4B-7AF9-445D-AE5C-B4E677C8173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914400" y="457200"/>
            <a:ext cx="731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008000"/>
                </a:solidFill>
                <a:latin typeface="Arial"/>
              </a:rPr>
              <a:t>3. Resumen de Ent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381880" y="6324480"/>
            <a:ext cx="457200" cy="304920"/>
          </a:xfrm>
          <a:prstGeom prst="leftArrow">
            <a:avLst>
              <a:gd name="adj1" fmla="val 50000"/>
              <a:gd name="adj2" fmla="val 37485"/>
            </a:avLst>
          </a:prstGeom>
          <a:gradFill rotWithShape="0">
            <a:gsLst>
              <a:gs pos="0">
                <a:srgbClr val="a6f8a8"/>
              </a:gs>
              <a:gs pos="100000">
                <a:srgbClr val="4c724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943600" y="457200"/>
            <a:ext cx="2286000" cy="3373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ffffff"/>
                </a:solidFill>
                <a:latin typeface="Arial"/>
              </a:rPr>
              <a:t>TABLA  PEDI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" y="1652760"/>
            <a:ext cx="8381880" cy="299556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8301F1-7E64-4668-9C29-F936E924FD9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20:45:03Z</dcterms:created>
  <dc:creator>LEONCARD</dc:creator>
  <dc:description/>
  <dc:language>en-US</dc:language>
  <cp:lastModifiedBy>LEONCARD</cp:lastModifiedBy>
  <dcterms:modified xsi:type="dcterms:W3CDTF">2010-05-25T00:13:16Z</dcterms:modified>
  <cp:revision>41</cp:revision>
  <dc:subject/>
  <dc:title>Slide 1</dc:title>
</cp:coreProperties>
</file>